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DD56E-F1DF-4EEA-971C-5355353D34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7A2E2-B237-49B6-B217-FB4C363279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BFFB8-882B-4602-968B-716D65752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DFAB1-D0C4-4F1B-AA59-EB32C31D4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3BEEA-8869-4CD7-B687-23793F486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54D1C-66D6-4904-BC30-D7B31B0B2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E133D-1799-49F5-894A-B9EACE66F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FACFC-D643-4BD3-BD4A-80E5E7064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64EE4-A307-484B-989C-24C93730F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59C88-3132-4C98-A625-B2EA5DCF1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AFB7C-5C31-40F1-9A49-958BFE616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4E251-F997-484C-83FF-1A24C2861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FF6DF-F28B-4A7C-A1C0-C2AFB7AB1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98F01-3E9B-4CFF-9805-EA2C9A863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3EC23-755D-4592-A50A-47BCFC8DE8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nors Physics 14 Sept 0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day: Significant figures and scientific no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rm-up: Please explain in your composition books how you can determine the number of significant figures in a numerical value -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n’t forget to date your page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mework: Write any ten numbers, determine the count of significant figures, and write them in scientific notation. Please write a variety of different numbers (small- large, etc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structions for activ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9144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 to pwhphys.wikispaces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wnload graphical analysis activity.x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ve the file to a flash drive if you have 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the file in MS Exc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a scatter plot using the chart wizard (follow teacher guidance her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nors Physics 18 Sept 0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0" y="1676160"/>
            <a:ext cx="9144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da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data analysis activity in Exce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 to problem solving methodology and linear mo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ignment # 3 In our first lab activity, we are going to be indirectly measuring the heights of trees. Research more about examples of indirect measurement, and report. All references should be clearly list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ules for determining significant fig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All non-zero digits are signific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All Sandwiched zeros are signific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Right most zeros with a decimal point are a signific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Right most zeros without a decimal point are NOT signific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 Left most zeros are NOT signific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ientific no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ay of writing numbers was developed as a short-hand notation for really big and really small numbers (many of which we need to use in this classroo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nvolves expressing a value as the product of two numbers. One number is between 1 and 10, the other number is 10 raised to some po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ientific notation strate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write a number in Sci Not - do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ve the decimal point left or right until you have a value between 1 and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you move the decimal to the right, the exponent of ten is nega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you move the decimal to the left, the exponent of ten is posi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value of the exponent is equal to the number of places mo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ientific notation strate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you have a number in scientific notation and want the arithmetic value, just multiply the two values toget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the number of significant figures and scientific notation for these number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,987,0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0.000004055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0.032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,900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nors Physics 15 Sept 0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day: Computers and graphical analysis intro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mework Questions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fety sheets – We need the rest to do lab work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mework: Think of something that could be analyzed by looking for a straight line relationship between two variables. Explain how you might go about collecting the data and setting up the analys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nors Physics 16 Sept 0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day: linear analysis and algebraic manip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– some homework 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ework tonight : use the relationships established in class to find the follow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, and K temp when F = 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, and K temp when C = 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nors Physics 17 Sept 0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day: Analysis of Linear Relationships using MS Exc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you still owe a safety sheet please turn it i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ignment #2 – Analyze the differences between male and female height and weight dat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ignment #1 – Find a mathematical relationship between F and K (show all wor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05:38:00Z</dcterms:created>
  <dc:creator>PA Department of Education</dc:creator>
  <dc:description/>
  <dc:language>en-US</dc:language>
  <cp:lastModifiedBy>sebastian interlandi</cp:lastModifiedBy>
  <dcterms:modified xsi:type="dcterms:W3CDTF">2009-09-18T12:00:56Z</dcterms:modified>
  <cp:revision>8</cp:revision>
  <dc:subject/>
  <dc:title>Honors Physics 14 Sept 09</dc:title>
</cp:coreProperties>
</file>